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7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A3C-61C6-4770-8C69-6FC68BAF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373-9992-47E2-B0B5-F9C38FDC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0D5-10AB-4826-8C08-9B9B754A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CA1-8A51-4B25-8C7B-526ABEB7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6B4-2596-4342-8943-B69F22CC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310-5B1A-480B-940C-5E94D63B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EAD-5E8B-4E6B-8E71-662A43DB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EC3-D12E-4217-8BD0-E74441B0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F0F-D8A0-4042-8072-B874A1EF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28F-C4FD-4398-A1AB-4DF62462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2C4-1933-4DBA-A581-BAFEF208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688-97A5-4D5F-93D1-BB9F60A5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3C44-929A-4047-BF62-91D492515D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1.png"/><Relationship Id="rId3" Type="http://schemas.openxmlformats.org/officeDocument/2006/relationships/image" Target="../media/image3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70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71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38606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请单击您要查看的菜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utoCAD 2007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下拉菜单结构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1844640"/>
            <a:ext cx="8748720" cy="2951280"/>
            <a:chOff x="250920" y="1844640"/>
            <a:chExt cx="8748720" cy="29512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50920" y="2708280"/>
              <a:ext cx="87487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>
              <a:hlinkClick r:id="" action="ppaction://hlinkshowjump?jump=nextslide"/>
            </p:cNvPr>
            <p:cNvSpPr/>
            <p:nvPr/>
          </p:nvSpPr>
          <p:spPr>
            <a:xfrm>
              <a:off x="250920" y="1844640"/>
              <a:ext cx="7207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>
              <a:hlinkClick r:id="rId2" action="ppaction://hlinksldjump"/>
            </p:cNvPr>
            <p:cNvSpPr/>
            <p:nvPr/>
          </p:nvSpPr>
          <p:spPr>
            <a:xfrm>
              <a:off x="1049400" y="1844640"/>
              <a:ext cx="7207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>
              <a:hlinkClick r:id="rId3" action="ppaction://hlinksldjump"/>
            </p:cNvPr>
            <p:cNvSpPr/>
            <p:nvPr/>
          </p:nvSpPr>
          <p:spPr>
            <a:xfrm>
              <a:off x="1849320" y="1844640"/>
              <a:ext cx="7207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>
              <a:hlinkClick r:id="rId4" action="ppaction://hlinksldjump"/>
            </p:cNvPr>
            <p:cNvSpPr/>
            <p:nvPr/>
          </p:nvSpPr>
          <p:spPr>
            <a:xfrm>
              <a:off x="2647800" y="1844640"/>
              <a:ext cx="7207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>
              <a:hlinkClick r:id="rId5" action="ppaction://hlinksldjump"/>
            </p:cNvPr>
            <p:cNvSpPr/>
            <p:nvPr/>
          </p:nvSpPr>
          <p:spPr>
            <a:xfrm>
              <a:off x="3448080" y="1844640"/>
              <a:ext cx="7207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>
              <a:hlinkClick r:id="rId6" action="ppaction://hlinksldjump"/>
            </p:cNvPr>
            <p:cNvSpPr/>
            <p:nvPr/>
          </p:nvSpPr>
          <p:spPr>
            <a:xfrm>
              <a:off x="4246560" y="1844640"/>
              <a:ext cx="7207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>
              <a:hlinkClick r:id="rId7" action="ppaction://hlinksldjump"/>
            </p:cNvPr>
            <p:cNvSpPr/>
            <p:nvPr/>
          </p:nvSpPr>
          <p:spPr>
            <a:xfrm>
              <a:off x="5046840" y="1844640"/>
              <a:ext cx="7207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>
              <a:hlinkClick r:id="rId8" action="ppaction://hlinksldjump"/>
            </p:cNvPr>
            <p:cNvSpPr/>
            <p:nvPr/>
          </p:nvSpPr>
          <p:spPr>
            <a:xfrm>
              <a:off x="5845320" y="1844640"/>
              <a:ext cx="7207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>
              <a:hlinkClick r:id="rId9" action="ppaction://hlinksldjump"/>
            </p:cNvPr>
            <p:cNvSpPr/>
            <p:nvPr/>
          </p:nvSpPr>
          <p:spPr>
            <a:xfrm>
              <a:off x="6645240" y="1844640"/>
              <a:ext cx="7207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>
              <a:hlinkClick r:id="rId10" action="ppaction://hlinksldjump"/>
            </p:cNvPr>
            <p:cNvSpPr/>
            <p:nvPr/>
          </p:nvSpPr>
          <p:spPr>
            <a:xfrm>
              <a:off x="7443720" y="1844640"/>
              <a:ext cx="7207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>
              <a:hlinkClick r:id="rId11" action="ppaction://hlinksldjump"/>
            </p:cNvPr>
            <p:cNvSpPr/>
            <p:nvPr/>
          </p:nvSpPr>
          <p:spPr>
            <a:xfrm>
              <a:off x="8244000" y="1844640"/>
              <a:ext cx="7207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27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431640"/>
            <a:ext cx="6315120" cy="33336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1644480" y="890640"/>
            <a:ext cx="4538880" cy="5562720"/>
            <a:chOff x="1644480" y="890640"/>
            <a:chExt cx="4538880" cy="556272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1644480" y="895320"/>
              <a:ext cx="1487520" cy="5558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4579920" y="890640"/>
              <a:ext cx="1090800" cy="160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0" name="" descr=""/>
            <p:cNvPicPr/>
            <p:nvPr/>
          </p:nvPicPr>
          <p:blipFill>
            <a:blip r:embed="rId4"/>
            <a:stretch/>
          </p:blipFill>
          <p:spPr>
            <a:xfrm>
              <a:off x="4605480" y="2884320"/>
              <a:ext cx="1068120" cy="1182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1" name="" descr=""/>
            <p:cNvPicPr/>
            <p:nvPr/>
          </p:nvPicPr>
          <p:blipFill>
            <a:blip r:embed="rId5"/>
            <a:stretch/>
          </p:blipFill>
          <p:spPr>
            <a:xfrm>
              <a:off x="4581360" y="4510080"/>
              <a:ext cx="1602000" cy="833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92" name="" descr=""/>
            <p:cNvPicPr/>
            <p:nvPr/>
          </p:nvPicPr>
          <p:blipFill>
            <a:blip r:embed="rId6"/>
            <a:stretch/>
          </p:blipFill>
          <p:spPr>
            <a:xfrm>
              <a:off x="4586400" y="5751360"/>
              <a:ext cx="1054080" cy="395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3" name=""/>
            <p:cNvSpPr/>
            <p:nvPr/>
          </p:nvSpPr>
          <p:spPr>
            <a:xfrm>
              <a:off x="3132000" y="256536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419640" y="1706400"/>
              <a:ext cx="1440" cy="85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19640" y="1700280"/>
              <a:ext cx="115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32000" y="321300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16400" y="3492360"/>
              <a:ext cx="1182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132000" y="4215960"/>
              <a:ext cx="32256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48080" y="4226040"/>
              <a:ext cx="14400" cy="17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60680" y="5950080"/>
              <a:ext cx="1111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701880" y="4925520"/>
              <a:ext cx="87012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32000" y="4054320"/>
              <a:ext cx="5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19640" y="321300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708360" y="4051440"/>
              <a:ext cx="6480" cy="89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001960" y="503280"/>
            <a:ext cx="6315120" cy="333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27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19440" y="4987800"/>
            <a:ext cx="1105200" cy="6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3143160" y="4842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593720" y="907920"/>
            <a:ext cx="3872160" cy="5689800"/>
            <a:chOff x="1593720" y="907920"/>
            <a:chExt cx="3872160" cy="5689800"/>
          </a:xfrm>
        </p:grpSpPr>
        <p:pic>
          <p:nvPicPr>
            <p:cNvPr id="212" name="" descr=""/>
            <p:cNvPicPr/>
            <p:nvPr/>
          </p:nvPicPr>
          <p:blipFill>
            <a:blip r:embed="rId3"/>
            <a:stretch/>
          </p:blipFill>
          <p:spPr>
            <a:xfrm>
              <a:off x="1593720" y="907920"/>
              <a:ext cx="1538280" cy="5689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13" name="" descr=""/>
            <p:cNvPicPr/>
            <p:nvPr/>
          </p:nvPicPr>
          <p:blipFill>
            <a:blip r:embed="rId4"/>
            <a:stretch/>
          </p:blipFill>
          <p:spPr>
            <a:xfrm>
              <a:off x="4519440" y="1454040"/>
              <a:ext cx="641520" cy="241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14" name="" descr=""/>
            <p:cNvPicPr/>
            <p:nvPr/>
          </p:nvPicPr>
          <p:blipFill>
            <a:blip r:embed="rId5"/>
            <a:stretch/>
          </p:blipFill>
          <p:spPr>
            <a:xfrm>
              <a:off x="4519440" y="2206800"/>
              <a:ext cx="946440" cy="241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15" name=""/>
            <p:cNvSpPr/>
            <p:nvPr/>
          </p:nvSpPr>
          <p:spPr>
            <a:xfrm>
              <a:off x="3143160" y="4587840"/>
              <a:ext cx="2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432240" y="1563840"/>
              <a:ext cx="0" cy="30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32240" y="156384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719520" y="3402000"/>
              <a:ext cx="0" cy="144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19520" y="3402000"/>
              <a:ext cx="79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132000" y="531324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1368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58880" y="844560"/>
            <a:ext cx="5000400" cy="5753160"/>
            <a:chOff x="1658880" y="844560"/>
            <a:chExt cx="5000400" cy="575316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1658880" y="844560"/>
              <a:ext cx="1555560" cy="575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4859280" y="3005280"/>
              <a:ext cx="736560" cy="927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4851360" y="4300560"/>
              <a:ext cx="1447560" cy="1174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4859280" y="5813640"/>
              <a:ext cx="793440" cy="438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29" name="" descr=""/>
            <p:cNvPicPr/>
            <p:nvPr/>
          </p:nvPicPr>
          <p:blipFill>
            <a:blip r:embed="rId5"/>
            <a:stretch/>
          </p:blipFill>
          <p:spPr>
            <a:xfrm>
              <a:off x="4856040" y="1060560"/>
              <a:ext cx="1803240" cy="1631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0" name=""/>
            <p:cNvSpPr/>
            <p:nvPr/>
          </p:nvSpPr>
          <p:spPr>
            <a:xfrm>
              <a:off x="3203280" y="5524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563640" y="1852560"/>
              <a:ext cx="0" cy="36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63640" y="18525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03280" y="58849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50920" y="34369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50920" y="343692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3280" y="61009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40000" y="48769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40000" y="48769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3280" y="6461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427280" y="6029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27280" y="60292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1547640" y="431640"/>
            <a:ext cx="6315120" cy="33336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908000" y="431640"/>
            <a:ext cx="6315120" cy="3333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27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92360" y="835200"/>
            <a:ext cx="4824000" cy="5762160"/>
            <a:chOff x="1692360" y="835200"/>
            <a:chExt cx="4824000" cy="576216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1692360" y="1150920"/>
              <a:ext cx="1047240" cy="5248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49" name="" descr=""/>
            <p:cNvPicPr/>
            <p:nvPr/>
          </p:nvPicPr>
          <p:blipFill>
            <a:blip r:embed="rId3"/>
            <a:stretch/>
          </p:blipFill>
          <p:spPr>
            <a:xfrm>
              <a:off x="3830400" y="835200"/>
              <a:ext cx="932760" cy="3361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649840" y="1406520"/>
              <a:ext cx="866520" cy="1662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5649840" y="3684600"/>
              <a:ext cx="631800" cy="580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2" name="" descr=""/>
            <p:cNvPicPr/>
            <p:nvPr/>
          </p:nvPicPr>
          <p:blipFill>
            <a:blip r:embed="rId6"/>
            <a:stretch/>
          </p:blipFill>
          <p:spPr>
            <a:xfrm>
              <a:off x="3808080" y="4227480"/>
              <a:ext cx="1311840" cy="2369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53" name=""/>
            <p:cNvSpPr/>
            <p:nvPr/>
          </p:nvSpPr>
          <p:spPr>
            <a:xfrm>
              <a:off x="2715120" y="1639080"/>
              <a:ext cx="47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15120" y="3482280"/>
              <a:ext cx="47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93920" y="3482280"/>
              <a:ext cx="0" cy="185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93920" y="5334120"/>
              <a:ext cx="61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93920" y="1639080"/>
              <a:ext cx="0" cy="82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93920" y="2461680"/>
              <a:ext cx="61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63520" y="3970440"/>
              <a:ext cx="88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63520" y="3695040"/>
              <a:ext cx="40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172840" y="2255760"/>
              <a:ext cx="0" cy="143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72840" y="2256120"/>
              <a:ext cx="47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27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108160" y="836640"/>
            <a:ext cx="4214880" cy="5616720"/>
            <a:chOff x="2108160" y="836640"/>
            <a:chExt cx="4214880" cy="561672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2108160" y="836640"/>
              <a:ext cx="1104840" cy="5511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4938840" y="1011240"/>
              <a:ext cx="1384200" cy="136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4938840" y="2630520"/>
              <a:ext cx="907920" cy="704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0" name="" descr=""/>
            <p:cNvPicPr/>
            <p:nvPr/>
          </p:nvPicPr>
          <p:blipFill>
            <a:blip r:embed="rId4"/>
            <a:stretch/>
          </p:blipFill>
          <p:spPr>
            <a:xfrm>
              <a:off x="4938840" y="3643200"/>
              <a:ext cx="1009440" cy="704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4938840" y="4776840"/>
              <a:ext cx="927000" cy="895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2" name="" descr=""/>
            <p:cNvPicPr/>
            <p:nvPr/>
          </p:nvPicPr>
          <p:blipFill>
            <a:blip r:embed="rId6"/>
            <a:stretch/>
          </p:blipFill>
          <p:spPr>
            <a:xfrm>
              <a:off x="4938840" y="6021360"/>
              <a:ext cx="1022400" cy="432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3" name=""/>
            <p:cNvSpPr/>
            <p:nvPr/>
          </p:nvSpPr>
          <p:spPr>
            <a:xfrm>
              <a:off x="3203640" y="3500280"/>
              <a:ext cx="2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92360" y="1700280"/>
              <a:ext cx="0" cy="180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92360" y="170028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03640" y="407664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3851280" y="2997360"/>
              <a:ext cx="0" cy="10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51280" y="2997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03640" y="4724280"/>
              <a:ext cx="64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3640" y="4221000"/>
              <a:ext cx="10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211640" y="4005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11640" y="400536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1280" y="4724280"/>
              <a:ext cx="0" cy="50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40120" y="5229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03640" y="6237360"/>
              <a:ext cx="172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1403280" y="431640"/>
            <a:ext cx="6315120" cy="333360"/>
          </a:xfrm>
          <a:prstGeom prst="rect">
            <a:avLst/>
          </a:prstGeom>
          <a:ln w="0">
            <a:noFill/>
          </a:ln>
        </p:spPr>
      </p:pic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27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标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058840" y="836640"/>
            <a:ext cx="3481560" cy="5616720"/>
            <a:chOff x="2058840" y="836640"/>
            <a:chExt cx="3481560" cy="561672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2058840" y="836640"/>
              <a:ext cx="1514520" cy="561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>
              <a:off x="4716360" y="4581720"/>
              <a:ext cx="824040" cy="1295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93" name=""/>
            <p:cNvSpPr/>
            <p:nvPr/>
          </p:nvSpPr>
          <p:spPr>
            <a:xfrm>
              <a:off x="3564000" y="5229360"/>
              <a:ext cx="115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1619280" y="404640"/>
            <a:ext cx="6315120" cy="33372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785960" y="404640"/>
            <a:ext cx="6315120" cy="333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70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908000" y="804960"/>
            <a:ext cx="6066000" cy="5911920"/>
            <a:chOff x="1908000" y="804960"/>
            <a:chExt cx="6066000" cy="591192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4214880" y="920880"/>
              <a:ext cx="1098360" cy="1860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6735600" y="804960"/>
              <a:ext cx="755640" cy="438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2" name="" descr=""/>
            <p:cNvPicPr/>
            <p:nvPr/>
          </p:nvPicPr>
          <p:blipFill>
            <a:blip r:embed="rId4"/>
            <a:stretch/>
          </p:blipFill>
          <p:spPr>
            <a:xfrm>
              <a:off x="6735600" y="1395360"/>
              <a:ext cx="781200" cy="895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3" name="" descr=""/>
            <p:cNvPicPr/>
            <p:nvPr/>
          </p:nvPicPr>
          <p:blipFill>
            <a:blip r:embed="rId5"/>
            <a:stretch/>
          </p:blipFill>
          <p:spPr>
            <a:xfrm>
              <a:off x="4214880" y="4024440"/>
              <a:ext cx="1047600" cy="269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4" name="" descr=""/>
            <p:cNvPicPr/>
            <p:nvPr/>
          </p:nvPicPr>
          <p:blipFill>
            <a:blip r:embed="rId6"/>
            <a:stretch/>
          </p:blipFill>
          <p:spPr>
            <a:xfrm>
              <a:off x="6735600" y="2536920"/>
              <a:ext cx="1238400" cy="61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5" name="" descr=""/>
            <p:cNvPicPr/>
            <p:nvPr/>
          </p:nvPicPr>
          <p:blipFill>
            <a:blip r:embed="rId7"/>
            <a:stretch/>
          </p:blipFill>
          <p:spPr>
            <a:xfrm>
              <a:off x="6735600" y="3409920"/>
              <a:ext cx="752760" cy="60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6" name="" descr=""/>
            <p:cNvPicPr/>
            <p:nvPr/>
          </p:nvPicPr>
          <p:blipFill>
            <a:blip r:embed="rId8"/>
            <a:stretch/>
          </p:blipFill>
          <p:spPr>
            <a:xfrm>
              <a:off x="4214880" y="3111480"/>
              <a:ext cx="895320" cy="61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07" name=""/>
            <p:cNvSpPr/>
            <p:nvPr/>
          </p:nvSpPr>
          <p:spPr>
            <a:xfrm>
              <a:off x="2917800" y="1798560"/>
              <a:ext cx="5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17800" y="5721480"/>
              <a:ext cx="5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492000" y="1798560"/>
              <a:ext cx="1800" cy="163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94160" y="342900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3492000" y="5373720"/>
              <a:ext cx="180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4160" y="537372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94160" y="1030320"/>
              <a:ext cx="144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94160" y="1197000"/>
              <a:ext cx="86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94160" y="2610000"/>
              <a:ext cx="2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80000" y="2608200"/>
              <a:ext cx="0" cy="11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83240" y="3716280"/>
              <a:ext cx="115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94160" y="2249640"/>
              <a:ext cx="5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867280" y="2238480"/>
              <a:ext cx="5040" cy="61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70520" y="2852640"/>
              <a:ext cx="8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56360" y="119700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59600" y="1844640"/>
              <a:ext cx="57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9"/>
            <a:stretch/>
          </p:blipFill>
          <p:spPr>
            <a:xfrm>
              <a:off x="1908000" y="857160"/>
              <a:ext cx="1094040" cy="5740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24" name=""/>
            <p:cNvSpPr/>
            <p:nvPr/>
          </p:nvSpPr>
          <p:spPr>
            <a:xfrm flipH="1">
              <a:off x="3779640" y="18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3776400" y="1585440"/>
              <a:ext cx="32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87640" y="159552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2700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315120" cy="33336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1943280" y="981000"/>
            <a:ext cx="3636720" cy="5235480"/>
            <a:chOff x="1943280" y="981000"/>
            <a:chExt cx="3636720" cy="5235480"/>
          </a:xfrm>
        </p:grpSpPr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4689720" y="1331640"/>
              <a:ext cx="890280" cy="4165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1943280" y="981000"/>
              <a:ext cx="1000080" cy="5235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4" name=""/>
            <p:cNvSpPr/>
            <p:nvPr/>
          </p:nvSpPr>
          <p:spPr>
            <a:xfrm flipH="1">
              <a:off x="3738240" y="3408120"/>
              <a:ext cx="93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46600" y="5640120"/>
              <a:ext cx="79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738600" y="3407760"/>
              <a:ext cx="0" cy="22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27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935000" y="1795320"/>
            <a:ext cx="5662800" cy="2880000"/>
            <a:chOff x="1935000" y="1795320"/>
            <a:chExt cx="5662800" cy="2880000"/>
          </a:xfrm>
        </p:grpSpPr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1935000" y="1795320"/>
              <a:ext cx="1622520" cy="288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500720" y="2133720"/>
              <a:ext cx="1357200" cy="143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6732720" y="2970360"/>
              <a:ext cx="865080" cy="745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4" name=""/>
            <p:cNvSpPr/>
            <p:nvPr/>
          </p:nvSpPr>
          <p:spPr>
            <a:xfrm>
              <a:off x="3564000" y="285264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67280" y="3357720"/>
              <a:ext cx="86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1692360" y="404640"/>
            <a:ext cx="6315120" cy="33372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27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十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帮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365120" y="1341360"/>
            <a:ext cx="6015240" cy="3960360"/>
            <a:chOff x="1365120" y="1341360"/>
            <a:chExt cx="6015240" cy="396036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1365120" y="1341360"/>
              <a:ext cx="2810160" cy="378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5368680" y="3697920"/>
              <a:ext cx="2011680" cy="1603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53" name=""/>
            <p:cNvSpPr/>
            <p:nvPr/>
          </p:nvSpPr>
          <p:spPr>
            <a:xfrm>
              <a:off x="4165560" y="4497840"/>
              <a:ext cx="11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1908000" y="503280"/>
            <a:ext cx="6315120" cy="33336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3254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19280" y="620640"/>
            <a:ext cx="4793760" cy="5977080"/>
            <a:chOff x="1619280" y="620640"/>
            <a:chExt cx="4793760" cy="59770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4922640" y="4975200"/>
              <a:ext cx="1482480" cy="1378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 flipV="1">
              <a:off x="4189320" y="5686200"/>
              <a:ext cx="7329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1619280" y="620640"/>
              <a:ext cx="2563560" cy="5977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4947840" y="2320920"/>
              <a:ext cx="1465200" cy="2098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2" name=""/>
            <p:cNvSpPr/>
            <p:nvPr/>
          </p:nvSpPr>
          <p:spPr>
            <a:xfrm flipV="1">
              <a:off x="4168440" y="3882600"/>
              <a:ext cx="2761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444920" y="3379680"/>
              <a:ext cx="0" cy="50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44920" y="33800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619280" y="189000"/>
            <a:ext cx="6315120" cy="33336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352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0600" y="1197000"/>
            <a:ext cx="306720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6315120" cy="33336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6315120" cy="333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46260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82840" y="152280"/>
            <a:ext cx="5127480" cy="6329520"/>
            <a:chOff x="1482840" y="152280"/>
            <a:chExt cx="5127480" cy="632952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482840" y="1066680"/>
              <a:ext cx="1730160" cy="5257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257800" y="152280"/>
              <a:ext cx="819000" cy="2419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5257800" y="2795760"/>
              <a:ext cx="698400" cy="1288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5257800" y="4309920"/>
              <a:ext cx="1352520" cy="628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0" name="" descr=""/>
            <p:cNvPicPr/>
            <p:nvPr/>
          </p:nvPicPr>
          <p:blipFill>
            <a:blip r:embed="rId6"/>
            <a:stretch/>
          </p:blipFill>
          <p:spPr>
            <a:xfrm>
              <a:off x="5257800" y="5164200"/>
              <a:ext cx="895320" cy="45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1" name="" descr=""/>
            <p:cNvPicPr/>
            <p:nvPr/>
          </p:nvPicPr>
          <p:blipFill>
            <a:blip r:embed="rId7"/>
            <a:stretch/>
          </p:blipFill>
          <p:spPr>
            <a:xfrm>
              <a:off x="5257800" y="5840280"/>
              <a:ext cx="1352520" cy="641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2" name=""/>
            <p:cNvSpPr/>
            <p:nvPr/>
          </p:nvSpPr>
          <p:spPr>
            <a:xfrm>
              <a:off x="3200400" y="2133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23623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00400" y="2590920"/>
              <a:ext cx="10224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00400" y="28195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00400" y="3048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5320" y="1371600"/>
              <a:ext cx="175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05320" y="6195960"/>
              <a:ext cx="1739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05320" y="1371600"/>
              <a:ext cx="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500280" y="3048120"/>
              <a:ext cx="5040" cy="315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0" y="34290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572000" y="236196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231800" y="4648320"/>
              <a:ext cx="102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229280" y="2590560"/>
              <a:ext cx="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886200" y="541008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86200" y="2819520"/>
              <a:ext cx="0" cy="2590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6315120" cy="333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1905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81240" y="189000"/>
            <a:ext cx="6110280" cy="6424560"/>
            <a:chOff x="1281240" y="189000"/>
            <a:chExt cx="6110280" cy="642456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281240" y="1219320"/>
              <a:ext cx="1690560" cy="5135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4343400" y="189000"/>
              <a:ext cx="927000" cy="1955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343400" y="2276640"/>
              <a:ext cx="1136520" cy="2711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4343400" y="5229360"/>
              <a:ext cx="1371600" cy="1384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6591240" y="2438280"/>
              <a:ext cx="800280" cy="61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7" name=""/>
            <p:cNvSpPr/>
            <p:nvPr/>
          </p:nvSpPr>
          <p:spPr>
            <a:xfrm>
              <a:off x="2971800" y="449568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03848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505320" y="1218960"/>
              <a:ext cx="0" cy="28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5320" y="121932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886200" y="342864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6200" y="34290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71800" y="518148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5320" y="518148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05320" y="579132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27432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6315120" cy="333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25146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24160" y="189000"/>
            <a:ext cx="6119640" cy="5973840"/>
            <a:chOff x="1424160" y="189000"/>
            <a:chExt cx="6119640" cy="59738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1424160" y="990720"/>
              <a:ext cx="1680840" cy="5105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4191120" y="1484280"/>
              <a:ext cx="1333440" cy="146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6464160" y="189000"/>
              <a:ext cx="1079640" cy="1593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6464160" y="2349360"/>
              <a:ext cx="1022400" cy="831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4191120" y="4902120"/>
              <a:ext cx="1117440" cy="1117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7" name="" descr=""/>
            <p:cNvPicPr/>
            <p:nvPr/>
          </p:nvPicPr>
          <p:blipFill>
            <a:blip r:embed="rId7"/>
            <a:stretch/>
          </p:blipFill>
          <p:spPr>
            <a:xfrm>
              <a:off x="6464160" y="4221000"/>
              <a:ext cx="762120" cy="679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8" name="" descr=""/>
            <p:cNvPicPr/>
            <p:nvPr/>
          </p:nvPicPr>
          <p:blipFill>
            <a:blip r:embed="rId8"/>
            <a:stretch/>
          </p:blipFill>
          <p:spPr>
            <a:xfrm>
              <a:off x="6477120" y="5445000"/>
              <a:ext cx="507960" cy="71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29" name=""/>
            <p:cNvSpPr/>
            <p:nvPr/>
          </p:nvSpPr>
          <p:spPr>
            <a:xfrm flipV="1">
              <a:off x="3073320" y="5181480"/>
              <a:ext cx="50796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581280" y="2209320"/>
              <a:ext cx="0" cy="297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81280" y="220968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090960" y="5714640"/>
              <a:ext cx="71892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09880" y="53341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533412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08720" y="1812960"/>
              <a:ext cx="58716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095880" y="1066320"/>
              <a:ext cx="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5880" y="106668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506920" y="2209680"/>
              <a:ext cx="5889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5880" y="22096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27432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308560" y="5028840"/>
              <a:ext cx="8636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172200" y="45720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72200" y="45720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303880" y="5181480"/>
              <a:ext cx="868320" cy="1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2200" y="51814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72200" y="57150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3047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94000" y="1295280"/>
            <a:ext cx="5165640" cy="4648320"/>
            <a:chOff x="1494000" y="1295280"/>
            <a:chExt cx="5165640" cy="46483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494000" y="1295280"/>
              <a:ext cx="2442960" cy="464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694400" y="2841480"/>
              <a:ext cx="1965240" cy="93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3" name=""/>
            <p:cNvSpPr/>
            <p:nvPr/>
          </p:nvSpPr>
          <p:spPr>
            <a:xfrm>
              <a:off x="3932280" y="33098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692360" y="765000"/>
            <a:ext cx="6315120" cy="33372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27208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格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58840" y="981000"/>
            <a:ext cx="5724720" cy="5334120"/>
            <a:chOff x="1158840" y="981000"/>
            <a:chExt cx="5724720" cy="533412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1158840" y="981000"/>
              <a:ext cx="2003400" cy="5334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4648320" y="1035000"/>
              <a:ext cx="2235240" cy="5105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1" name=""/>
            <p:cNvSpPr/>
            <p:nvPr/>
          </p:nvSpPr>
          <p:spPr>
            <a:xfrm>
              <a:off x="3124080" y="17208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9880" y="172080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9880" y="34732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547640" y="476280"/>
            <a:ext cx="6315120" cy="33336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af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2700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219320" y="720720"/>
            <a:ext cx="6184800" cy="5869080"/>
            <a:chOff x="1219320" y="720720"/>
            <a:chExt cx="6184800" cy="586908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1219320" y="836640"/>
              <a:ext cx="1555560" cy="575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4038480" y="720720"/>
              <a:ext cx="1575000" cy="1123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4038480" y="1940040"/>
              <a:ext cx="1479600" cy="3073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4038480" y="5114880"/>
              <a:ext cx="1371600" cy="1193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6324480" y="5811840"/>
              <a:ext cx="1079640" cy="641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74" name=""/>
            <p:cNvSpPr/>
            <p:nvPr/>
          </p:nvSpPr>
          <p:spPr>
            <a:xfrm>
              <a:off x="2765520" y="1147680"/>
              <a:ext cx="12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771640" y="1325520"/>
              <a:ext cx="64476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19640" y="1341360"/>
              <a:ext cx="0" cy="20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34290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24908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0400" y="2481120"/>
              <a:ext cx="3240" cy="317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0400" y="566100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10080" y="61657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1979640" y="333360"/>
            <a:ext cx="6315120" cy="33336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96320" y="5084640"/>
            <a:ext cx="785880" cy="8654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65440"/>
              <a:gd name="textAreaBottom" fmla="*/ 814680 h 865440"/>
            </a:gdLst>
            <a:ahLst/>
            <a:rect l="textAreaLeft" t="textAreaTop" r="textAreaRight" b="textAreaBottom"/>
            <a:pathLst>
              <a:path w="21600" h="23786">
                <a:moveTo>
                  <a:pt x="0" y="0"/>
                </a:moveTo>
                <a:lnTo>
                  <a:pt x="21600" y="0"/>
                </a:lnTo>
                <a:lnTo>
                  <a:pt x="21600" y="23786"/>
                </a:lnTo>
                <a:lnTo>
                  <a:pt x="0" y="23786"/>
                </a:lnTo>
                <a:close/>
              </a:path>
              <a:path fill="lightenLess" w="21600" h="23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6">
                <a:moveTo>
                  <a:pt x="21600" y="0"/>
                </a:moveTo>
                <a:lnTo>
                  <a:pt x="21600" y="23786"/>
                </a:lnTo>
                <a:lnTo>
                  <a:pt x="20200" y="22386"/>
                </a:lnTo>
                <a:lnTo>
                  <a:pt x="20200" y="1400"/>
                </a:lnTo>
                <a:close/>
              </a:path>
              <a:path fill="darkenLess" w="21600" h="23786">
                <a:moveTo>
                  <a:pt x="21600" y="23786"/>
                </a:moveTo>
                <a:lnTo>
                  <a:pt x="0" y="23786"/>
                </a:lnTo>
                <a:lnTo>
                  <a:pt x="1400" y="22386"/>
                </a:lnTo>
                <a:lnTo>
                  <a:pt x="20200" y="22386"/>
                </a:lnTo>
                <a:close/>
              </a:path>
              <a:path fill="lighten" w="21600" h="23786">
                <a:moveTo>
                  <a:pt x="0" y="23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6"/>
                </a:lnTo>
                <a:close/>
              </a:path>
              <a:path fill="darken" w="21600" h="23786">
                <a:moveTo>
                  <a:pt x="10800" y="4930"/>
                </a:moveTo>
                <a:lnTo>
                  <a:pt x="13376" y="7541"/>
                </a:ln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lnTo>
                  <a:pt x="17763" y="11893"/>
                </a:lnTo>
                <a:lnTo>
                  <a:pt x="16109" y="11893"/>
                </a:lnTo>
                <a:lnTo>
                  <a:pt x="16109" y="19082"/>
                </a:lnTo>
                <a:lnTo>
                  <a:pt x="5491" y="19082"/>
                </a:lnTo>
                <a:lnTo>
                  <a:pt x="5491" y="11893"/>
                </a:lnTo>
                <a:lnTo>
                  <a:pt x="3837" y="11893"/>
                </a:lnTo>
                <a:close/>
              </a:path>
              <a:path fill="darkenLess" w="21600" h="23786">
                <a:moveTo>
                  <a:pt x="13376" y="7541"/>
                </a:moveTo>
                <a:lnTo>
                  <a:pt x="13376" y="5800"/>
                </a:lnTo>
                <a:lnTo>
                  <a:pt x="15152" y="5800"/>
                </a:lnTo>
                <a:lnTo>
                  <a:pt x="15152" y="9317"/>
                </a:lnTo>
                <a:close/>
              </a:path>
              <a:path fill="darkenLess" w="21600" h="23786">
                <a:moveTo>
                  <a:pt x="9877" y="15392"/>
                </a:moveTo>
                <a:lnTo>
                  <a:pt x="11723" y="15392"/>
                </a:lnTo>
                <a:lnTo>
                  <a:pt x="11723" y="19082"/>
                </a:lnTo>
                <a:lnTo>
                  <a:pt x="16109" y="19082"/>
                </a:lnTo>
                <a:lnTo>
                  <a:pt x="16109" y="11893"/>
                </a:lnTo>
                <a:lnTo>
                  <a:pt x="5491" y="11893"/>
                </a:lnTo>
                <a:lnTo>
                  <a:pt x="5491" y="19082"/>
                </a:lnTo>
                <a:lnTo>
                  <a:pt x="9877" y="1908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88508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07:55:06Z</dcterms:created>
  <dc:creator>CADTC</dc:creator>
  <dc:description/>
  <dc:language>en-US</dc:language>
  <cp:lastModifiedBy>CADTC</cp:lastModifiedBy>
  <dcterms:modified xsi:type="dcterms:W3CDTF">2008-08-03T12:40:37Z</dcterms:modified>
  <cp:revision>23</cp:revision>
  <dc:subject/>
  <dc:title>幻灯片 1</dc:title>
</cp:coreProperties>
</file>